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6A488D-3179-45C2-A6FE-B07A61557901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analisi del contenu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’analisi del contenuto può avvalersi di tecniche compèuterizzate che consentono una maggiore qualità e rilevanza delle interpretazioni proposte (validità)  aggiunto ad una maggiore trasparenza e riproducibilità delle procedure seguite (affidabilità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te tecniche infatti consentono di estendere l’analisi al teso nel suo complesso offrendo la garanzia della ripetibilità e dell’intersoggettività dell’anali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oltre, l’analisi statistico testuale, rispetto all’analisi di contenuto tradizionale, consente di esamninare corpus testuali di notevoli dimensioni, grazie a programmi informatici che permettono l’indicizzazione (o numerizzazione)rapida dei corpora testuali, l’attuazione di tutti i confronti possibili e l’individuazione delle “dimensioni fondamentali di senso presenti in un testo oggetto di studio” (Balasc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ito scelta multipla. Risposta esatta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corret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tto,  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zione. La rispos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risposta non forni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letteratura grigia rappresenta un’importante fonte di informazione da individuare e consultare prima di passare al trattamento dei da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287E-0B70-4427-9882-53B134E2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132-D034-44B5-AF33-E2212FF5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5337-68A2-4662-AD8E-D265BC1C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DA9-E72D-41D3-AAC2-9287AAFD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71D6-F8A0-4DD7-B830-818637A3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87A8-C065-49A7-9F6F-2CD06CB1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E8C-B1B9-45E1-8C48-8F704FC7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20B-1DCC-485F-A683-FC82FE27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E4E-1AD7-4C79-8AB6-105260CB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9CF-11AB-4DE1-B84A-67CA52C1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A894-48A1-4509-B45F-72774EBC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74AB-6890-43B2-A2B4-0602BB6F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2. Le fonti bibliografiche e i doc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5440" y="349200"/>
            <a:ext cx="1852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0FE49A29-DF02-4E9C-AE45-C4DFC40243C0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2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8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9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801E-2C4C-4EB7-983B-9B00C803337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68760"/>
            <a:ext cx="4190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fonti bibliografiche i 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e guida per la raccolta delle fonti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1600200"/>
            <a:ext cx="434340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 di analisi che consentano una classificazione il più possibile oggettiva dei dati raccolti e e che siano lontane  da interpretazioni arbitrarie e sogge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nt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che consiste nella rilevazione della presenza o assenza di categorie generali individuate a prior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ame qualitativ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del contesto ossia del tipo di informazioni in esso contenute detta anch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analisi del contenu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78096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952880" y="1905120"/>
            <a:ext cx="3733920" cy="36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 notevole rilevanza è l’analisi statistico testuale che rappresenta una strategia ponte tra metodiche qualitative e quantit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particolar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’analisi statistico testuale computerizzat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onsenti di individua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chi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vra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parole sotto rappresen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segmenti ripetu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l contesto d’u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0" y="2695680"/>
            <a:ext cx="4191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914400"/>
            <a:ext cx="29718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l trattamento stati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78125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523880"/>
            <a:ext cx="7925040" cy="449604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080" y="16765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 qualsiasi ambito di ricerca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rattamento dei dati inferibili dai documenti viene effettuato utilizzando alcune categorie, in particolare possiamo procedere a due tipi di es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nt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levazione della presenza o assenza di categorie generali individuate a prior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Esame qualitativo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alisi tipo di informazioni contenute ne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0" y="175248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e in qualsiasi ambito di ricerca, anche nel caso delle ricerche educative è necessario saper utilizzare le fonti bibliografiche e i docu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ell’ambito di una ricerca si deve quindi saper raccogliere, selezionare e classificare le informazioni bibliografiche relative al settore di indagine preso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principali fonti di informazione sono rappresentate 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iamoli nel dettagli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14400" y="1676520"/>
            <a:ext cx="3038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1609560"/>
            <a:ext cx="4343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n il  termin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i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care diversi tipi di fonti di informazione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di opere di consultazione la cui funzione 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lla di fornire indicazioni di caratt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e. Possiamo distingu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Opere generali (manuali, trattati,  enciclopedie, dizionari, glossari ecc,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gislazione e documenti normativ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pertori di notizie dati e statist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grafie e banche dati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Biblioteche e cataloghi special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assegne bibliografich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iodic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ditoria professional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onti di informazione in re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Servizi di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8075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termine ‘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’ sta ad indicare una modalità non convenzionale di  diffusione dell’informazione specialistica, costituita da ricerche e dati non pubblicati o divulgati in maniera ufficiale che presenta il vantaggio di garantire una rapida circolazione (non è infatti legata a tempi, luoghi di edizione, risorse finanziarie disponibili ecc.) ma, proprio per questo, estremamente difficile da reperi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990720"/>
            <a:ext cx="2286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73193" descr=""/>
          <p:cNvPicPr/>
          <p:nvPr/>
        </p:nvPicPr>
        <p:blipFill>
          <a:blip r:embed="rId1"/>
          <a:stretch/>
        </p:blipFill>
        <p:spPr>
          <a:xfrm>
            <a:off x="914400" y="1873080"/>
            <a:ext cx="291636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0" y="2362320"/>
            <a:ext cx="4343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 consider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ocumen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gni genere di materiale scritto che possa  essere utilizzato quale fonte di informazione e fornire dati relativi al fenomeno che si vuole esaminar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e tali, i documenti rientrano tra gli strumenti utilizzabili nella ricerca in ambito educativo e risultano particolarmente necessari soprattutto nella fase iniziale di una ricerc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iStock_000000093740_1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2781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48320" y="1219320"/>
            <a:ext cx="4267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l punto di vista della relazione con l’evento cui si riferiscono i documenti possono essere distinti i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m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esoconti di testimoni oculari che hanno vissuto un particolare 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condar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cioè riferiti da persone che non erano presenti sulla scena ma che hanno ottenuto l’informazione necessarie per compilare il documento intervistando testimoni oculari o leggendo documenti primar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empio: un autobiografia è un documento primario, mentre una bibliografia è un documento second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518148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 classificazione ulteriore riguarda la natura dei “dati” che i documenti possono contenere. I documenti possono infatti essere sia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ers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scritti in prima persona) che d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ipo istituzional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di carattere pubblico e fortemente strutturati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990720"/>
            <a:ext cx="1447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Docu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78175" descr=""/>
          <p:cNvPicPr/>
          <p:nvPr/>
        </p:nvPicPr>
        <p:blipFill>
          <a:blip r:embed="rId1"/>
          <a:srcRect l="0" t="0" r="0" b="9327"/>
          <a:stretch/>
        </p:blipFill>
        <p:spPr>
          <a:xfrm>
            <a:off x="861840" y="1371600"/>
            <a:ext cx="2948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648320" y="1987560"/>
            <a:ext cx="42465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 linee guid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er condurre una analisi bibliografica e documenta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plorare le possibilità che offrono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rvizi di referenc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quind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ndividuare e consultare la cosiddett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etteratura grigi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minare 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ocu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assare al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ratt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ei da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ssia all’analisi delle informazioni, numeriche o testuali contenute nelle fo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990720"/>
            <a:ext cx="4267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inee guida per l’analisi docu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73161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7147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0880" y="548640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cord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non si può parlare di ricerca se i dati contenuti in un documento vengono riportati così come so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3157560"/>
            <a:ext cx="1003140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990720"/>
            <a:ext cx="11430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36360" y="3565440"/>
            <a:ext cx="33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Passare al trattamento dei d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2120" y="3124080"/>
            <a:ext cx="528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Consultare bibliografie e banche dati bibliograf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89200" y="4006800"/>
            <a:ext cx="461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Individuare e consultare la letteratura gri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1600200"/>
            <a:ext cx="7441920" cy="824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ricercatore Mario Rossi sta eseguendo una ricerca nel campo della formazione. Ha già raccolto numerose informazioni mediante i servizi di reference e i documenti disponibili. Cosa gli consigli di fare 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1040" y="510552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i clic sulla risposta di tua sc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3178" descr=""/>
          <p:cNvPicPr/>
          <p:nvPr/>
        </p:nvPicPr>
        <p:blipFill>
          <a:blip r:embed="rId1"/>
          <a:srcRect l="0" t="0" r="0" b="4862"/>
          <a:stretch/>
        </p:blipFill>
        <p:spPr>
          <a:xfrm>
            <a:off x="990720" y="280044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952880" y="2438280"/>
            <a:ext cx="3962520" cy="25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analizzare i dati raccolti è necessario porsi alcune domande necessarie per controllare l’attendibilità degli stes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atti, i dati non sono mai neutrali ma sono un insieme composto da un oggetto osservato e un soggetto che osserva. Tutte le informazioni presenti in un documento sono quindi  l’interpretazione dell’oggetto fatta da chi  ha prodotto l’informazi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91440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Alcune domande importa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05120"/>
            <a:ext cx="403848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me sono stati raccolti i dati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 sono utilizzati strumenti effettivamente adatti allo scopo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misurazi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2819520"/>
            <a:ext cx="4038480" cy="4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che modo sono stati registrati e inseri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rrori di registrazione o di elaborazion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520" y="3413160"/>
            <a:ext cx="4038480" cy="8240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n quale periodo sono stati rilevati i dat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 sono stati eventi episodici o periodici  di cui non si è a conoscenza che possono aver inficiato i dati raccolt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4191120"/>
            <a:ext cx="4038480" cy="641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 dati sono stati oggetto di ulteriori analisi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È stata rispettata la riservatezza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no state occultate alcune informazioni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5105520"/>
            <a:ext cx="4038480" cy="8240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ino a che punto i dati sono rappresentativi della popolazione presa in esa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 dati sono realmente attinenti alla variabili oggetto dello stud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dc:language>en-US</dc:language>
  <cp:lastModifiedBy>Riccardo</cp:lastModifiedBy>
  <cp:lastPrinted>2000-05-14T18:13:16Z</cp:lastPrinted>
  <dcterms:modified xsi:type="dcterms:W3CDTF">2004-04-26T06:46:35Z</dcterms:modified>
  <cp:revision>193</cp:revision>
  <dc:subject>Presentazione piero</dc:subject>
  <dc:title>Presentazione forum P.A. del 9/05/96</dc:title>
</cp:coreProperties>
</file>